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D0013-EBF8-440C-92A4-C01A2B96D1C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90B21-FE7D-49B2-9FD9-D7FC18C60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knowledge and responds appropriately to the cultural background and learning needs of non-native English spea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5E9F7-E037-4D7A-98C7-FD0BB99B4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criteria</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3ABFF-5146-4AEE-A5E4-FDC8CDB58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c: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standard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has experienced online learning from the perspective of a student</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B3364-3661-4B68-97B5-60E10AB82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ll one criteria previously</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13C1C-B9B9-4B15-A33D-75B00A7FED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students who are not particip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ists in a consistent and reasonable manner until students are successful</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7955A-ED14-4F2B-8060-4AD0F580A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d: the teacher provides online leadership in a manner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AA9E5-966A-45F1-B720-003C05E70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e: n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03496D-FA55-42A7-B89E-3AA1A83C8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f: was folded into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understands and is responsive to students with special needs in the online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EAD7C3-9E2D-4E0F-8D91-486B57DB9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C094E6-F92A-431A-8C68-2227B5B73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46CFE-B61E-4620-9A9A-ADF8BF36D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 </a:t>
            </a:r>
            <a:r>
              <a:rPr b="0" lang="en-US" sz="1200" spc="-1" strike="noStrike">
                <a:solidFill>
                  <a:srgbClr val="000000"/>
                </a:solidFill>
                <a:latin typeface="Arial"/>
                <a:ea typeface="Arial"/>
              </a:rPr>
              <a:t>to provide a comprehensive list of standards that could be applied nationally to aid K-12 districts and organiz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Quality Online Teaching and Online Teaching Evaluation for State Virtual School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FC4B7F-6F5A-41AB-9097-BC5C5FFAF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FE0ED-81A9-41AB-AB0A-294670DA0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standard 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 post testing</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FD71E8-D13B-43EB-8826-BFFD27D88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es each </a:t>
            </a:r>
            <a:r>
              <a:rPr b="0" i="1" lang="en-US" sz="1200" spc="-1" strike="noStrike">
                <a:solidFill>
                  <a:srgbClr val="ff0000"/>
                </a:solidFill>
                <a:latin typeface="Calibri"/>
              </a:rPr>
              <a:t>student’s background </a:t>
            </a:r>
            <a:r>
              <a:rPr b="0" lang="en-US" sz="1200" spc="-1" strike="noStrike">
                <a:solidFill>
                  <a:srgbClr val="ff0000"/>
                </a:solidFill>
                <a:latin typeface="Calibri"/>
              </a:rPr>
              <a:t>and content knowledge </a:t>
            </a:r>
            <a:r>
              <a:rPr b="0" lang="en-US" sz="1200" spc="-1" strike="noStrike">
                <a:solidFill>
                  <a:srgbClr val="000000"/>
                </a:solidFill>
                <a:latin typeface="Calibri"/>
              </a:rPr>
              <a:t>and uses these data to plan instruction</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2C096-B449-4D30-B10D-E16A339AE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J,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C4ECF-21DB-4999-A65B-48868C02A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collaborates with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6CAB8-7AC6-400B-966F-BC13DF241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B4BC5-7CEC-476A-B8FB-7BC7AA7C4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8C4C5-5DD0-486D-909B-6A0BB2988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ra</a:t>
            </a:r>
            <a:r>
              <a:rPr b="0" lang="en-US" sz="1200" spc="-1" strike="noStrike">
                <a:solidFill>
                  <a:srgbClr val="000000"/>
                </a:solidFill>
                <a:latin typeface="Arial"/>
                <a:ea typeface="Arial"/>
              </a:rPr>
              <a:t>A group of online education experts across the country…across the globe were gathered into a committee for discussion and deliberation on editing the teach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ommittee met regularly throughout the months of May, June, July and August to refresh, clarify and refine the existing standar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standard was discussed one by one and suggestions were made and contempl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ynchronous feedback was also applied using Google doc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38232-A068-405D-B8C0-B936E9F65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9115D-0003-40E6-8C7D-57CD028EE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support)</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5894D-BB45-44B8-A349-A8A1BE6FD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ie (Sara support)</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4C7AB4-8753-4006-8151-8F30D457D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meets the professional teaching standards established by a state licensing agency or the teacher has academic credentials in the field in which he or she is teaching.</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7D3C3-E2E8-432B-94C9-86AA7D498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b: The teacher has the prerequisite technology skills to teach on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the ability to effectively use word-processing, spreadsheet and presentation softwar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s effectively use of internet browsers, email applications and appropriate online etiquet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ilizes synchronous and asynchronous tools effectively.</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9CB5F-F1CB-47CF-9712-E5C155267B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DD54D-B9DB-48EC-9ADF-AB9633C9B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711B7-EC46-4761-8267-660B7E691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D6D66-6357-41B7-9DEA-EC461BAEE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4E3C1-1409-4F3E-9479-A4D6166EF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E515F-C2AD-4172-9F5D-616B4352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A6FF6-F852-4021-B297-F54162C51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8FC1A-4833-4ADF-AA72-238E218C7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D2F15-3803-4805-9608-701F150C1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1110-288D-44AB-9AAB-DACF69764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B7C8-E9B4-4167-8913-3EA632E5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ACCBD-3DEE-4A1D-8E1C-C71959290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BB545-07B5-47B0-BBD6-0CFDB63F0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3050640"/>
            <a:ext cx="8229600" cy="2629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3050640"/>
            <a:ext cx="82296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30506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7251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30506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4424040"/>
            <a:ext cx="264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3050640"/>
            <a:ext cx="4015800" cy="2629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44240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3050640"/>
            <a:ext cx="40158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4424040"/>
            <a:ext cx="8229600" cy="1253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BA5D5-7F34-46E1-A132-358428F09F46}" type="datetime">
              <a:rPr b="0" lang="en-US" sz="1800" spc="-1" strike="noStrike">
                <a:solidFill>
                  <a:srgbClr val="000000"/>
                </a:solidFill>
                <a:latin typeface="Calibri"/>
              </a:rPr>
              <a:t>07/28/26</a:t>
            </a:fld>
            <a:endParaRPr b="0" lang="en-US" sz="1800" spc="-1" strike="noStrike">
              <a:solidFill>
                <a:srgbClr val="000000"/>
              </a:solidFill>
              <a:latin typeface="Times New Roman"/>
            </a:endParaRPr>
          </a:p>
        </p:txBody>
      </p:sp>
      <p:sp>
        <p:nvSpPr>
          <p:cNvPr id="7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BDEFD-BC2A-46ED-9845-8876CAFF41FB}"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7251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3050640"/>
            <a:ext cx="8229600" cy="2629080"/>
          </a:xfrm>
          <a:prstGeom prst="rect">
            <a:avLst/>
          </a:prstGeom>
          <a:noFill/>
          <a:ln w="0">
            <a:noFill/>
          </a:ln>
        </p:spPr>
        <p:txBody>
          <a:bodyPr lIns="90000" rIns="90000" tIns="46800" bIns="46800" anchor="t">
            <a:normAutofit fontScale="63000"/>
          </a:bodyPr>
          <a:p>
            <a:pPr marL="216000" indent="-216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8000" indent="-18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20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08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296000" indent="-144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2040" y="338040"/>
            <a:ext cx="8980200" cy="4391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600"/>
            </a:br>
            <a:br>
              <a:rPr sz="4600"/>
            </a:br>
            <a:r>
              <a:rPr b="0" lang="en-US" sz="4600" spc="-1" strike="noStrike">
                <a:solidFill>
                  <a:srgbClr val="ffffff"/>
                </a:solidFill>
                <a:latin typeface="Arial"/>
              </a:rPr>
              <a:t>iNACOL National Standards for Quality Online Teaching, </a:t>
            </a:r>
            <a:br>
              <a:rPr sz="4600"/>
            </a:br>
            <a:r>
              <a:rPr b="0" lang="en-US" sz="4600" spc="-1" strike="noStrike">
                <a:solidFill>
                  <a:srgbClr val="ffffff"/>
                </a:solidFill>
                <a:latin typeface="Arial"/>
              </a:rPr>
              <a:t>Version 2</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echniques to adjust communications to diverse persp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Respond appropriately to the diverse backgrounds and learning needs of the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techniques and applications of  online instructional strategies, based on current research and pract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Use student-centered instructional strategies that are connected to real-world applications to engage students in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The participation in an online course from a student-centered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800" spc="-1" strike="noStrike">
                          <a:solidFill>
                            <a:srgbClr val="000000"/>
                          </a:solidFill>
                          <a:latin typeface="Calibri"/>
                          <a:ea typeface="Geneva"/>
                        </a:rPr>
                        <a:t>Apply experiences as an online student and/or group to demonstrate the development and implementation of successful strategies for online teaching environments and to anticipate challenges and problems in the online classroo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8" name=""/>
          <p:cNvGraphicFramePr/>
          <p:nvPr/>
        </p:nvGraphicFramePr>
        <p:xfrm>
          <a:off x="457200" y="2422440"/>
          <a:ext cx="8229600" cy="449100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627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provide clear expectations of class interaction for both teacher and student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assessment criteria for the course to student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Provide a clear explanation of the expectations of teacher response time to student quer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and implement criteria for appropriate online behavior for both teacher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0"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 </a:t>
                      </a:r>
                      <a:r>
                        <a:rPr b="0" lang="en-US" sz="1800" spc="-1" strike="noStrike">
                          <a:solidFill>
                            <a:srgbClr val="ff0000"/>
                          </a:solidFill>
                          <a:latin typeface="Calibri"/>
                          <a:ea typeface="Geneva"/>
                        </a:rPr>
                        <a:t>variety of methods and tools </a:t>
                      </a:r>
                      <a:r>
                        <a:rPr b="0" lang="en-US" sz="1800" spc="-1" strike="noStrike">
                          <a:solidFill>
                            <a:srgbClr val="000000"/>
                          </a:solidFill>
                          <a:latin typeface="Calibri"/>
                          <a:ea typeface="Geneva"/>
                        </a:rPr>
                        <a:t>to </a:t>
                      </a:r>
                      <a:r>
                        <a:rPr b="0" lang="en-US" sz="1800" spc="-1" strike="noStrike">
                          <a:solidFill>
                            <a:srgbClr val="ff0000"/>
                          </a:solidFill>
                          <a:latin typeface="Calibri"/>
                          <a:ea typeface="Geneva"/>
                        </a:rPr>
                        <a:t>reach and engage </a:t>
                      </a:r>
                      <a:r>
                        <a:rPr b="0" lang="en-US" sz="1800" spc="-1" strike="noStrike">
                          <a:solidFill>
                            <a:srgbClr val="000000"/>
                          </a:solidFill>
                          <a:latin typeface="Calibri"/>
                          <a:ea typeface="Geneva"/>
                        </a:rPr>
                        <a:t>students who are </a:t>
                      </a:r>
                      <a:r>
                        <a:rPr b="0" lang="en-US" sz="1800" spc="-1" strike="noStrike">
                          <a:solidFill>
                            <a:srgbClr val="ff0000"/>
                          </a:solidFill>
                          <a:latin typeface="Calibri"/>
                          <a:ea typeface="Geneva"/>
                        </a:rPr>
                        <a:t>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 variety of methods and tools to reach and engage students who are strugg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D. The online teacher promotes student success through clear expectations, prompt responses, and regular feedba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aligning teacher and student expectations for the course, in gener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rient students to teacher’s instructional methods and goals and invite students to provide feedback on their perceptions of how they are learning in a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4"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E. The online teacher models, guides, and encourages legal, ethical, and safe behavior related to technology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responsibilities of </a:t>
                      </a:r>
                      <a:r>
                        <a:rPr b="0" lang="en-US" sz="1800" spc="-1" strike="noStrike">
                          <a:solidFill>
                            <a:srgbClr val="ff0000"/>
                          </a:solidFill>
                          <a:latin typeface="Calibri"/>
                          <a:ea typeface="Geneva"/>
                        </a:rPr>
                        <a:t>digital citizenship</a:t>
                      </a:r>
                      <a:r>
                        <a:rPr b="0" lang="en-US" sz="1800" spc="-1" strike="noStrike">
                          <a:solidFill>
                            <a:srgbClr val="000000"/>
                          </a:solidFill>
                          <a:latin typeface="Calibri"/>
                          <a:ea typeface="Geneva"/>
                        </a:rPr>
                        <a:t> </a:t>
                      </a:r>
                      <a:r>
                        <a:rPr b="0" lang="en-US" sz="1800" spc="-1" strike="noStrike">
                          <a:solidFill>
                            <a:srgbClr val="ff0000"/>
                          </a:solidFill>
                          <a:latin typeface="Calibri"/>
                          <a:ea typeface="Geneva"/>
                        </a:rPr>
                        <a:t>and techniques  </a:t>
                      </a:r>
                      <a:r>
                        <a:rPr b="0" lang="en-US" sz="1800" spc="-1" strike="noStrike">
                          <a:solidFill>
                            <a:srgbClr val="000000"/>
                          </a:solidFill>
                          <a:latin typeface="Calibri"/>
                          <a:ea typeface="Geneva"/>
                        </a:rPr>
                        <a:t>to facilitate student investigations of the legal and ethical issues related to technology and socie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stablish standards for student behavior that are designed to ensure academic integrity and appropriate use of the Internet and online written communication; teach students that copyright laws are created for a reas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6"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Legal mandates stipulated by the Americans with Disabilities Act (ADA), the Individuals with Disabilities Education Act (IDEA), the Assistive Technology Act, and Section 508 or other similar guidelines/requirements for access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7f7f7f"/>
                          </a:solidFill>
                          <a:latin typeface="Calibri"/>
                          <a:ea typeface="Geneva"/>
                        </a:rPr>
                        <a:t>Monitor student progress and apply activities and tools that are relevant to the needs of all students, including those with learning or physical disabilities, in collaboration with appropriate staff or 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38"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tools and technologies to make accommodations to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adaptive/assistive technologies are used to help people who have disabilities gain access to information that might otherwise be inaccessibl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appropriate tools and technologies to make accommodations meet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Apply adaptive and assistive technologies into the online classroom where appropriate in the instruction to meet student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0" name=""/>
          <p:cNvGraphicFramePr/>
          <p:nvPr/>
        </p:nvGraphicFramePr>
        <p:xfrm>
          <a:off x="457200" y="2422440"/>
          <a:ext cx="8229600" cy="42163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F. The online teacher is cognizant of the diversity of student academic needs and incorporates accommodations into the online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526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for connecting with local support personnel to verify student's IEP requirements or 504 accommodations needed for student succes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diversity of student learning needs, languages, and backgrou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ommunicate with the appropriate school staff regarding specific accommodations, modifications, or needs as listed in a student's IEP or 504 accommodations, and work in collaboration with others to address student need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ea typeface="Geneva"/>
                        </a:rPr>
                        <a:t>  </a:t>
                      </a:r>
                      <a:r>
                        <a:rPr b="0" lang="en-US" sz="1800" spc="-1" strike="noStrike">
                          <a:solidFill>
                            <a:srgbClr val="000000"/>
                          </a:solidFill>
                          <a:latin typeface="Calibri"/>
                          <a:ea typeface="Geneva"/>
                        </a:rPr>
                        <a:t>Demonstrate awareness of different learning preferences, diversity, and universal design princ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ackground of Teaching Standards</a:t>
            </a:r>
            <a:endParaRPr b="0" lang="en-US" sz="4400" spc="-1" strike="noStrike">
              <a:solidFill>
                <a:srgbClr val="000000"/>
              </a:solidFill>
              <a:latin typeface="Arial"/>
            </a:endParaRPr>
          </a:p>
        </p:txBody>
      </p:sp>
      <p:sp>
        <p:nvSpPr>
          <p:cNvPr id="202" name=""/>
          <p:cNvSpPr txBox="1"/>
          <p:nvPr/>
        </p:nvSpPr>
        <p:spPr>
          <a:xfrm>
            <a:off x="457200" y="3457080"/>
            <a:ext cx="8229600" cy="262908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iNACOL National Standards for Quality Online Teaching were first created in 2008</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Adapted from the SREB Standard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2"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G. The online teacher demonstrates competencies in creating and implementing assessments in online learning environments in ways that ensure validity and reliability of the assessment instruments and proced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Multiple strategies for ensuring the security of online student assessments, academic integrity, and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Implement a variety of assessments that ensure the security of student assessment data and accurate measures of student 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4"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H. The online teacher develops and delivers assessments, projects, and assignments that meet standards-based learning goals and assesses learning progress by measuring student achievement of the learning go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process of continuous evaluation of students to include </a:t>
                      </a:r>
                      <a:r>
                        <a:rPr b="0" lang="en-US" sz="1800" spc="-1" strike="noStrike">
                          <a:solidFill>
                            <a:srgbClr val="ff0000"/>
                          </a:solidFill>
                          <a:latin typeface="Calibri"/>
                          <a:ea typeface="Geneva"/>
                        </a:rPr>
                        <a:t>formative and summative </a:t>
                      </a:r>
                      <a:r>
                        <a:rPr b="0" lang="en-US" sz="1800" spc="-1" strike="noStrike">
                          <a:solidFill>
                            <a:srgbClr val="000000"/>
                          </a:solidFill>
                          <a:latin typeface="Calibri"/>
                          <a:ea typeface="Geneva"/>
                        </a:rPr>
                        <a:t>assessments and student feedback, including polls and surveys that reflect student learning progress throughout the cou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eate or select and implement a variety </a:t>
                      </a:r>
                      <a:r>
                        <a:rPr b="0" lang="en-US" sz="1800" spc="-1" strike="noStrike">
                          <a:solidFill>
                            <a:srgbClr val="ff0000"/>
                          </a:solidFill>
                          <a:latin typeface="Calibri"/>
                          <a:ea typeface="Geneva"/>
                        </a:rPr>
                        <a:t>of formative and summative </a:t>
                      </a:r>
                      <a:r>
                        <a:rPr b="0" lang="en-US" sz="1800" spc="-1" strike="noStrike">
                          <a:solidFill>
                            <a:srgbClr val="000000"/>
                          </a:solidFill>
                          <a:latin typeface="Calibri"/>
                          <a:ea typeface="Geneva"/>
                        </a:rPr>
                        <a:t>assessments that assess student learning progress and utilize student feedback to improve the online learning exper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6"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echniques to plan individualized instruction, incorporating student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How instruction is based on assessment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Use student data to plan instruc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ustomize instruction, based on assessment data, in order to personalize the learning experience per student needs and perform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48"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I. The online teacher demonstrates competency in using data from assessments and other data sources to modify content and to guide student learning.</a:t>
                      </a:r>
                      <a:r>
                        <a:rPr b="1" lang="en-US"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ffective time management strategi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Online course management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consistent feedback and course materials in a timely manner, and use online tool functionality to improve instructional efficiency</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600" spc="-1" strike="noStrike">
                          <a:solidFill>
                            <a:srgbClr val="7f7f7f"/>
                          </a:solidFill>
                          <a:latin typeface="Calibri"/>
                          <a:ea typeface="Geneva"/>
                        </a:rPr>
                        <a:t> </a:t>
                      </a: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rack student enrollments, communication logs, attendance records,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J. The online teacher interacts in a professional, effective manner with colleagues, parents, and other members of the community to support students' suc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for professional activity and collaboration beyond school (e.g., professional learning communities) to update academic skills and knowledge and collaborate with other educator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The need to coordinate learning experiences with adult professionals (e.g., parents, local school contacts, mentors) to support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Engage in professional development activities and collaboration beyond schoo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Provide ongoing communication with parents or guardians concerning student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52" name=""/>
          <p:cNvGraphicFramePr/>
          <p:nvPr/>
        </p:nvGraphicFramePr>
        <p:xfrm>
          <a:off x="457200" y="2422440"/>
          <a:ext cx="8229600" cy="4191120"/>
        </p:xfrm>
        <a:graphic>
          <a:graphicData uri="http://schemas.openxmlformats.org/drawingml/2006/table">
            <a:tbl>
              <a:tblPr/>
              <a:tblGrid>
                <a:gridCol w="4114800"/>
                <a:gridCol w="4114800"/>
              </a:tblGrid>
              <a:tr h="86364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K. The online teacher arranges media and content to help students and teachers transfer knowledge most effectively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online teacher knows and understand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Critical digital literacies and 21st century skill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 </a:t>
                      </a:r>
                      <a:r>
                        <a:rPr b="0" lang="en-US" sz="1800" spc="-1" strike="noStrike">
                          <a:solidFill>
                            <a:srgbClr val="000000"/>
                          </a:solidFill>
                          <a:latin typeface="Calibri"/>
                          <a:ea typeface="Geneva"/>
                        </a:rPr>
                        <a:t>Appropriate use of technologies to enhance lear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7251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Why create the standards and why do they need to be updated?</a:t>
            </a:r>
            <a:endParaRPr b="0" lang="en-US" sz="3600" spc="-1" strike="noStrike">
              <a:solidFill>
                <a:srgbClr val="000000"/>
              </a:solidFill>
              <a:latin typeface="Arial"/>
            </a:endParaRPr>
          </a:p>
        </p:txBody>
      </p:sp>
      <p:sp>
        <p:nvSpPr>
          <p:cNvPr id="204" name=""/>
          <p:cNvSpPr txBox="1"/>
          <p:nvPr/>
        </p:nvSpPr>
        <p:spPr>
          <a:xfrm>
            <a:off x="457200" y="3304800"/>
            <a:ext cx="8229600" cy="2629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hanging field of Online Te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sideration of blended learning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pdating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339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Overview of Standards Refresh Process</a:t>
            </a:r>
            <a:endParaRPr b="0" lang="en-US" sz="4400" spc="-1" strike="noStrike">
              <a:solidFill>
                <a:srgbClr val="000000"/>
              </a:solidFill>
              <a:latin typeface="Arial"/>
            </a:endParaRPr>
          </a:p>
        </p:txBody>
      </p:sp>
      <p:sp>
        <p:nvSpPr>
          <p:cNvPr id="206" name=""/>
          <p:cNvSpPr txBox="1"/>
          <p:nvPr/>
        </p:nvSpPr>
        <p:spPr>
          <a:xfrm>
            <a:off x="457200" y="3009960"/>
            <a:ext cx="8229600" cy="3309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med Committe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Met regular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Each standard was discussed thoroughly</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llaboration via Google docs</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urvey of iNACOL Membership and experts in the fiel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847600" y="674640"/>
            <a:ext cx="6296040" cy="6336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 Online Teacher IS …</a:t>
            </a:r>
            <a:endParaRPr b="0" lang="en-US" sz="3200" spc="-1" strike="noStrike">
              <a:solidFill>
                <a:srgbClr val="000000"/>
              </a:solidFill>
              <a:latin typeface="Arial"/>
            </a:endParaRPr>
          </a:p>
        </p:txBody>
      </p:sp>
      <p:sp>
        <p:nvSpPr>
          <p:cNvPr id="208" name="TextBox 3"/>
          <p:cNvSpPr/>
          <p:nvPr/>
        </p:nvSpPr>
        <p:spPr>
          <a:xfrm>
            <a:off x="301680" y="1353960"/>
            <a:ext cx="116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OUN</a:t>
            </a:r>
            <a:endParaRPr b="0" lang="en-US" sz="1800" spc="-1" strike="noStrike">
              <a:solidFill>
                <a:srgbClr val="000000"/>
              </a:solidFill>
              <a:latin typeface="Arial"/>
            </a:endParaRPr>
          </a:p>
        </p:txBody>
      </p:sp>
      <p:sp>
        <p:nvSpPr>
          <p:cNvPr id="209" name="TextBox 5"/>
          <p:cNvSpPr/>
          <p:nvPr/>
        </p:nvSpPr>
        <p:spPr>
          <a:xfrm>
            <a:off x="6804000" y="1308240"/>
            <a:ext cx="22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ERB/ADJECTIVE</a:t>
            </a:r>
            <a:endParaRPr b="0" lang="en-US" sz="1800" spc="-1" strike="noStrike">
              <a:solidFill>
                <a:srgbClr val="000000"/>
              </a:solidFill>
              <a:latin typeface="Arial"/>
            </a:endParaRPr>
          </a:p>
        </p:txBody>
      </p:sp>
      <p:sp>
        <p:nvSpPr>
          <p:cNvPr id="210" name="Rectangle 6"/>
          <p:cNvSpPr/>
          <p:nvPr/>
        </p:nvSpPr>
        <p:spPr>
          <a:xfrm>
            <a:off x="0" y="1677960"/>
            <a:ext cx="9144000" cy="446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2160" bIns="-2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1" name="Rectangle 7"/>
          <p:cNvSpPr/>
          <p:nvPr/>
        </p:nvSpPr>
        <p:spPr>
          <a:xfrm>
            <a:off x="4525920" y="1722600"/>
            <a:ext cx="46080" cy="51354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2" name="Rectangle 8"/>
          <p:cNvSpPr/>
          <p:nvPr/>
        </p:nvSpPr>
        <p:spPr>
          <a:xfrm>
            <a:off x="14400" y="5105520"/>
            <a:ext cx="91440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4" name=""/>
          <p:cNvGraphicFramePr/>
          <p:nvPr/>
        </p:nvGraphicFramePr>
        <p:xfrm>
          <a:off x="457200" y="2422440"/>
          <a:ext cx="8229600" cy="2651040"/>
        </p:xfrm>
        <a:graphic>
          <a:graphicData uri="http://schemas.openxmlformats.org/drawingml/2006/table">
            <a:tbl>
              <a:tblPr/>
              <a:tblGrid>
                <a:gridCol w="4114800"/>
                <a:gridCol w="4114800"/>
              </a:tblGrid>
              <a:tr h="91476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C. The online teacher plans, designs, and incorporates strategies to encourage active learning, interaction, participation, and collaboration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737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knows and understands techniques to create an environment that will engage, welcome, and reach each individual lear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apply strategies for engagement in online learning environments, e.g., asking questions to stimulate discu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6" name=""/>
          <p:cNvGraphicFramePr/>
          <p:nvPr/>
        </p:nvGraphicFramePr>
        <p:xfrm>
          <a:off x="457200" y="2422440"/>
          <a:ext cx="8229600" cy="320040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to use a range of technologies, both existing and emerging, that effectively support student learning and engagemen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88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Knowledge and Understanding</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7f7f7f"/>
                          </a:solidFill>
                          <a:latin typeface="Calibri"/>
                          <a:ea typeface="Geneva"/>
                        </a:rPr>
                        <a:t>The online teacher knows and understands the need to continuously update their knowledge and skills for using the evolving technology tools that support online learning</a:t>
                      </a:r>
                      <a:endParaRPr b="0" lang="en-US" sz="1800" spc="-1" strike="noStrike">
                        <a:solidFill>
                          <a:srgbClr val="000000"/>
                        </a:solidFill>
                        <a:latin typeface="Arial"/>
                      </a:endParaRPr>
                    </a:p>
                    <a:p>
                      <a:pPr lvl="1" marL="457200">
                        <a:lnSpc>
                          <a:spcPct val="100000"/>
                        </a:lnSpc>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acher Abilities</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The online teacher is able to identify</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nd explore new tools and test their</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Geneva"/>
                        </a:rPr>
                        <a:t>applicability to their content areas and stud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18" name=""/>
          <p:cNvGraphicFramePr/>
          <p:nvPr/>
        </p:nvGraphicFramePr>
        <p:xfrm>
          <a:off x="457200" y="2422440"/>
          <a:ext cx="8229600" cy="4419720"/>
        </p:xfrm>
        <a:graphic>
          <a:graphicData uri="http://schemas.openxmlformats.org/drawingml/2006/table">
            <a:tbl>
              <a:tblPr/>
              <a:tblGrid>
                <a:gridCol w="4114800"/>
                <a:gridCol w="4114800"/>
              </a:tblGrid>
              <a:tr h="916920">
                <a:tc grid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A. The online teacher knows the primary concepts and structures of effective online instruction and is able to create learning experiences to enable student success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028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current best practices and strategies </a:t>
                      </a:r>
                      <a:r>
                        <a:rPr b="0" lang="en-US" sz="1600" spc="-1" strike="noStrike">
                          <a:solidFill>
                            <a:srgbClr val="000000"/>
                          </a:solidFill>
                          <a:latin typeface="Calibri"/>
                          <a:ea typeface="Geneva"/>
                        </a:rPr>
                        <a:t>for online teaching and learning and their implementation in online education.</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role of online learning in preparing students</a:t>
                      </a:r>
                      <a:r>
                        <a:rPr b="0" lang="en-US" sz="1600" spc="-1" strike="noStrike">
                          <a:solidFill>
                            <a:srgbClr val="000000"/>
                          </a:solidFill>
                          <a:latin typeface="Calibri"/>
                          <a:ea typeface="Geneva"/>
                        </a:rPr>
                        <a:t> for the global community they live in, both now and in the future.</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instructional delivery continuum </a:t>
                      </a:r>
                      <a:r>
                        <a:rPr b="0" lang="en-US" sz="1600" spc="-1" strike="noStrike">
                          <a:solidFill>
                            <a:srgbClr val="000000"/>
                          </a:solidFill>
                          <a:latin typeface="Calibri"/>
                          <a:ea typeface="Geneva"/>
                        </a:rPr>
                        <a:t>(e.g., fully online to blended to face-to-fa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Apply the current best practices and strategies </a:t>
                      </a:r>
                      <a:r>
                        <a:rPr b="0" lang="en-US" sz="1600" spc="-1" strike="noStrike">
                          <a:solidFill>
                            <a:srgbClr val="000000"/>
                          </a:solidFill>
                          <a:latin typeface="Calibri"/>
                          <a:ea typeface="Geneva"/>
                        </a:rPr>
                        <a:t>in online teaching to create rich and meaningful experiences for students.</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Build learner capacity for collaboration </a:t>
                      </a:r>
                      <a:r>
                        <a:rPr b="0" lang="en-US" sz="1600" spc="-1" strike="noStrike">
                          <a:solidFill>
                            <a:srgbClr val="000000"/>
                          </a:solidFill>
                          <a:latin typeface="Calibri"/>
                          <a:ea typeface="Geneva"/>
                        </a:rPr>
                        <a:t>in face-to-face, blended, and online environments and encourages students to participate as global citizens .</a:t>
                      </a:r>
                      <a:endParaRPr b="0" lang="en-US" sz="1600" spc="-1" strike="noStrike">
                        <a:solidFill>
                          <a:srgbClr val="000000"/>
                        </a:solidFill>
                        <a:latin typeface="Arial"/>
                      </a:endParaRPr>
                    </a:p>
                    <a:p>
                      <a:pPr lvl="1" marL="457200">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ff0000"/>
                          </a:solidFill>
                          <a:latin typeface="Calibri"/>
                          <a:ea typeface="Geneva"/>
                        </a:rPr>
                        <a:t> </a:t>
                      </a:r>
                      <a:r>
                        <a:rPr b="0" lang="en-US" sz="1600" spc="-1" strike="noStrike">
                          <a:solidFill>
                            <a:srgbClr val="ff0000"/>
                          </a:solidFill>
                          <a:latin typeface="Calibri"/>
                          <a:ea typeface="Geneva"/>
                        </a:rPr>
                        <a:t>Construct </a:t>
                      </a:r>
                      <a:r>
                        <a:rPr b="0" lang="en-US" sz="1600" spc="-1" strike="noStrike">
                          <a:solidFill>
                            <a:srgbClr val="000000"/>
                          </a:solidFill>
                          <a:latin typeface="Calibri"/>
                          <a:ea typeface="Geneva"/>
                        </a:rPr>
                        <a:t>flexible, digital, and interactive </a:t>
                      </a:r>
                      <a:r>
                        <a:rPr b="0" lang="en-US" sz="1600" spc="-1" strike="noStrike">
                          <a:solidFill>
                            <a:srgbClr val="ff0000"/>
                          </a:solidFill>
                          <a:latin typeface="Calibri"/>
                          <a:ea typeface="Geneva"/>
                        </a:rPr>
                        <a:t>learning experiences</a:t>
                      </a:r>
                      <a:r>
                        <a:rPr b="0" lang="en-US" sz="1600" spc="-1" strike="noStrike">
                          <a:solidFill>
                            <a:srgbClr val="000000"/>
                          </a:solidFill>
                          <a:latin typeface="Calibri"/>
                          <a:ea typeface="Geneva"/>
                        </a:rPr>
                        <a:t> that are useful in a </a:t>
                      </a:r>
                      <a:r>
                        <a:rPr b="0" lang="en-US" sz="1600" spc="-1" strike="noStrike">
                          <a:solidFill>
                            <a:srgbClr val="ff0000"/>
                          </a:solidFill>
                          <a:latin typeface="Calibri"/>
                          <a:ea typeface="Geneva"/>
                        </a:rPr>
                        <a:t>variety of delivery modes</a:t>
                      </a:r>
                      <a:r>
                        <a:rPr b="0" lang="en-US" sz="1600" spc="-1" strike="noStrike">
                          <a:solidFill>
                            <a:srgbClr val="000000"/>
                          </a:solidFill>
                          <a:latin typeface="Calibri"/>
                          <a:ea typeface="Geneva"/>
                        </a:rPr>
                        <a:t>. </a:t>
                      </a:r>
                      <a:r>
                        <a:rPr b="0" i="1" lang="en-US" sz="1600" spc="-1" strike="noStrike">
                          <a:solidFill>
                            <a:srgbClr val="000000"/>
                          </a:solidFill>
                          <a:latin typeface="Calibri"/>
                          <a:ea typeface="Geneva"/>
                        </a:rPr>
                        <a:t>This standard can only be evaluated in the context of instructor(s) having the ability to modify the cour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4205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ighlights of Changes</a:t>
            </a:r>
            <a:endParaRPr b="0" lang="en-US" sz="4400" spc="-1" strike="noStrike">
              <a:solidFill>
                <a:srgbClr val="000000"/>
              </a:solidFill>
              <a:latin typeface="Arial"/>
            </a:endParaRPr>
          </a:p>
        </p:txBody>
      </p:sp>
      <p:graphicFrame>
        <p:nvGraphicFramePr>
          <p:cNvPr id="220" name=""/>
          <p:cNvGraphicFramePr/>
          <p:nvPr/>
        </p:nvGraphicFramePr>
        <p:xfrm>
          <a:off x="457200" y="2422440"/>
          <a:ext cx="8229600" cy="4241880"/>
        </p:xfrm>
        <a:graphic>
          <a:graphicData uri="http://schemas.openxmlformats.org/drawingml/2006/table">
            <a:tbl>
              <a:tblPr/>
              <a:tblGrid>
                <a:gridCol w="4114800"/>
                <a:gridCol w="4114800"/>
              </a:tblGrid>
              <a:tr h="914400">
                <a:tc gridSpan="2">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Standard B. The online teacher understands and is able </a:t>
                      </a:r>
                      <a:r>
                        <a:rPr b="1" lang="en-US" sz="1800" spc="-1" strike="noStrike" u="sng">
                          <a:solidFill>
                            <a:srgbClr val="ffffff"/>
                          </a:solidFill>
                          <a:uFillTx/>
                          <a:latin typeface="Calibri"/>
                        </a:rPr>
                        <a:t>to use a range of technologies, both existing and emerging</a:t>
                      </a:r>
                      <a:r>
                        <a:rPr b="1" lang="en-US" sz="1800" spc="-1" strike="noStrike">
                          <a:solidFill>
                            <a:srgbClr val="ffffff"/>
                          </a:solidFill>
                          <a:latin typeface="Calibri"/>
                        </a:rPr>
                        <a:t>, that effectively </a:t>
                      </a:r>
                      <a:r>
                        <a:rPr b="1" lang="en-US" sz="1800" spc="-1" strike="noStrike" u="sng">
                          <a:solidFill>
                            <a:srgbClr val="ffffff"/>
                          </a:solidFill>
                          <a:uFillTx/>
                          <a:latin typeface="Calibri"/>
                        </a:rPr>
                        <a:t>support student learning and engagement</a:t>
                      </a:r>
                      <a:r>
                        <a:rPr b="1" lang="en-US" sz="1800" spc="-1" strike="noStrike">
                          <a:solidFill>
                            <a:srgbClr val="ffffff"/>
                          </a:solidFill>
                          <a:latin typeface="Calibri"/>
                        </a:rPr>
                        <a:t> in the online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27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Knowledge and Understanding</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use of an array of grade-appropriate online tools </a:t>
                      </a:r>
                      <a:r>
                        <a:rPr b="0" lang="en-US" sz="1600" spc="-1" strike="noStrike">
                          <a:solidFill>
                            <a:srgbClr val="000000"/>
                          </a:solidFill>
                          <a:latin typeface="Calibri"/>
                          <a:ea typeface="Geneva"/>
                        </a:rPr>
                        <a:t>for communication, productivity, collaboration, analysis,  presentation,  research, and content delivery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ff0000"/>
                          </a:solidFill>
                          <a:latin typeface="Calibri"/>
                          <a:ea typeface="Geneva"/>
                        </a:rPr>
                        <a:t>The use of emerging technologies </a:t>
                      </a:r>
                      <a:r>
                        <a:rPr b="0" lang="en-US" sz="1600" spc="-1" strike="noStrike">
                          <a:solidFill>
                            <a:srgbClr val="000000"/>
                          </a:solidFill>
                          <a:latin typeface="Calibri"/>
                          <a:ea typeface="Geneva"/>
                        </a:rPr>
                        <a:t>in a variety of mediums for teaching and learning, based on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The </a:t>
                      </a:r>
                      <a:r>
                        <a:rPr b="0" lang="en-US" sz="1600" spc="-1" strike="noStrike">
                          <a:solidFill>
                            <a:srgbClr val="ff0000"/>
                          </a:solidFill>
                          <a:latin typeface="Calibri"/>
                          <a:ea typeface="Geneva"/>
                        </a:rPr>
                        <a:t>importance of interaction </a:t>
                      </a:r>
                      <a:r>
                        <a:rPr b="0" lang="en-US" sz="1600" spc="-1" strike="noStrike">
                          <a:solidFill>
                            <a:srgbClr val="000000"/>
                          </a:solidFill>
                          <a:latin typeface="Calibri"/>
                          <a:ea typeface="Geneva"/>
                        </a:rPr>
                        <a:t>in an online course and </a:t>
                      </a:r>
                      <a:r>
                        <a:rPr b="0" lang="en-US" sz="1600" spc="-1" strike="noStrike">
                          <a:solidFill>
                            <a:srgbClr val="ff0000"/>
                          </a:solidFill>
                          <a:latin typeface="Calibri"/>
                          <a:ea typeface="Geneva"/>
                        </a:rPr>
                        <a:t>the role of varied communication tools in supporting inte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acher Abilitie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Select and use a variety of online tools for communication, productivity, collaboration, analysis, presentation, research, and online content delivery as appropriate to the content area and student needs.</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Effectively use and incorporate subject-specific and developmentally appropriate technologies, tools, and resources .</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ea typeface="Geneva"/>
                        </a:rPr>
                        <a:t> </a:t>
                      </a:r>
                      <a:r>
                        <a:rPr b="0" lang="en-US" sz="1600" spc="-1" strike="noStrike">
                          <a:solidFill>
                            <a:srgbClr val="000000"/>
                          </a:solidFill>
                          <a:latin typeface="Calibri"/>
                          <a:ea typeface="Geneva"/>
                        </a:rPr>
                        <a:t>Use communication technologies in a variety of mediums and contexts for teaching and learning.</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20:17:34Z</dcterms:created>
  <dc:creator>Matt Wicks</dc:creator>
  <dc:description/>
  <dc:language>en-US</dc:language>
  <cp:lastModifiedBy>Kirsten Peterson</cp:lastModifiedBy>
  <dcterms:modified xsi:type="dcterms:W3CDTF">2011-11-09T18:59:46Z</dcterms:modified>
  <cp:revision>46</cp:revision>
  <dc:subject/>
  <dc:title>Slide 1</dc:title>
</cp:coreProperties>
</file>